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515-506E-47EF-9A6C-8B0D3B46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9C5-EF87-46F5-A190-985C0F74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035-3605-4758-8479-08233C62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94A-6662-4130-8F94-D3C8C565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EE2D-1ECE-4F4F-9BA8-3EACBC58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18D0-4FB4-454F-B618-600CBDD0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FFC5-CCDA-4327-B8A1-4F9B7AAE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CB64-41C7-4F15-9496-EBACF5B0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B02E-DCFF-478B-966E-C8F8D239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4848-FD0E-480B-A458-002FB417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AA69-B4D5-4973-8068-7E692FC7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C91-2A53-4290-A6ED-92D61865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9300-7B31-4C23-8020-6F20C4E7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4752-7204-4D3B-8B3E-4B943C5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0319-6C69-4F92-B687-5FDF0610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F202-DE11-493C-B60A-B82F67D0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4F76-380A-416B-AB99-EE4E308B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193-6543-4583-BF9C-F933E8B0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C78-6831-4990-AE64-B445C364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C2F-0396-4202-B344-6BD31727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FD0-E67C-4514-8C5E-ECF0FEC4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CDF-6858-4C98-ADDD-80B25B3D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8F0-51F0-4320-8180-4FA7E0F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5C3-668F-4ACF-9B33-9DB13649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61A7-97E6-4FEA-A79D-7EB689EFC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2219-4340-48E2-9C27-59D0D432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l-PH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l-PH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user</cp:lastModifiedBy>
  <dcterms:modified xsi:type="dcterms:W3CDTF">2012-07-02T11:44:33Z</dcterms:modified>
  <cp:revision>2</cp:revision>
  <dc:subject/>
  <dc:title>Problem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